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4B5-3624-44E5-B68E-D6D4D3B4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3AC-B2E6-4434-85ED-ABEBE310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354-68BD-4273-B542-810A03C8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36F-DA05-440F-B5FC-95925010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FC43-4FCB-4357-8186-2933EC10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6627-24F5-47DD-96F9-F695AF63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1F80-0B50-4579-BCC9-6117D751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2AD6-C51D-44D6-A14E-DC5D2949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05C5-101B-4DFF-AFCC-C28F002B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C899-B44F-46E4-98EA-B2519F84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0BF7-2798-408A-920A-2BB3C9E4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FD6-6F29-4BDB-8853-88745AD5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DAE7-36C5-41CE-89B6-54D85B02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E779-A59A-4575-86D2-7FC07C4D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460E-6417-4024-8BBC-390A156F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4598-9968-43A1-BDEE-3D65B61A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465B-DD4E-40AE-AA3A-5B02F796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65484-349E-4FAE-9354-5EA17D95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7DF32-A2C7-4506-A08F-A6282D36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3ABA1-C173-472E-87A0-D6DACDB5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D8751-F4A7-4CEB-A390-6A07C1F7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E8582-EBCD-4066-9231-B4BB07C8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AC4-8313-43E1-AB7E-376C979D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2B791-00C8-4D00-B3AD-B34BBA22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2ECE-103C-4AE5-B141-C61D4E9D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6240E-2BD0-452F-9AAB-4D643BA4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3FF59-C1BD-4102-8F33-1903C058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578AD-E5FC-4837-9715-558D0343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6A609-D793-46D5-999D-7F27E200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FBFC8-167B-44C2-986A-0591CE18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5A901-AA25-4C44-BCA4-86DF881F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F5867-F5F5-4C66-999C-681A67A6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40960-FBCB-46B5-A670-11B6033B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C49-5D3D-4AC3-80BD-B5795431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7C51A-91B4-4691-A439-FDB85A0F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74562-DA55-4064-8D4F-9F32A6CA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8B857-97D8-490A-847B-32A9D668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A2161-6ADB-498E-987D-AF401CE6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AC9AD-E4A5-457F-8505-65E44E87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0F293-9564-43D6-AC2D-E382F1CE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51174-F9CC-47BC-9958-F763599E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DF2BC-BFB2-43A9-8DA2-057BDD71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21D3B-A21D-4FAC-8DE5-FB3A19EB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CBA8-4C62-4C03-908B-9DAF1F3B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810-3BC2-4B87-8206-FE36AC94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32A-55C8-496C-99DB-E7227AF6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82F-9F65-4C98-BE30-BDA460A1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0D2-FC29-48D0-BADB-34897C3B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2E17-4E9E-4315-A3E2-3F77C7845893}" type="slidenum">
              <a:rPr b="0" lang="en-PH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15E1-7F7B-44B0-9A1A-912F5805BA1C}" type="slidenum">
              <a:rPr b="0" lang="en-PH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5B8A-CBA3-47AE-A080-B7E84F4D4C89}" type="slidenum">
              <a:rPr b="0" lang="en-PH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82BE-CC77-4F02-B17B-CA410C4F23D4}" type="slidenum">
              <a:rPr b="0" lang="en-PH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990720" y="1143000"/>
            <a:ext cx="7315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Rounded MT Bold"/>
              </a:rPr>
              <a:t>Guidelines in the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dd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Rounded MT Bold"/>
              </a:rPr>
              <a:t>Selection of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dd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Rounded MT Bold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Rounded MT Bold"/>
              </a:rPr>
              <a:t>Instructional Material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dd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9ecf7"/>
                </a:solidFill>
                <a:latin typeface="Copperplate Gothic Bold"/>
              </a:rPr>
              <a:t>THANK YOU!</a:t>
            </a:r>
            <a:endParaRPr b="0" lang="en-US" sz="96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334800" y="1158840"/>
            <a:ext cx="82854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Copperplate Gothic Bold"/>
              </a:rPr>
              <a:t>Determine the need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 Rounded MT Bold"/>
              </a:rPr>
              <a:t>trying to accomplish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 Rounded MT Bold"/>
              </a:rPr>
              <a:t>specific instructional media address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Picture 8" descr="8C1185C92DAD43EBB892E93DEC9157D3"/>
          <p:cNvPicPr/>
          <p:nvPr/>
        </p:nvPicPr>
        <p:blipFill>
          <a:blip r:embed="rId1"/>
          <a:stretch/>
        </p:blipFill>
        <p:spPr>
          <a:xfrm>
            <a:off x="4724280" y="220968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4038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 Rounded MT Bold"/>
              </a:rPr>
              <a:t>School library or media centre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 Rounded MT Bold"/>
              </a:rPr>
              <a:t>Commercial producer and distributors of instructional media that can be bought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Picture 9" descr="Huge-Library-of-clipart"/>
          <p:cNvPicPr/>
          <p:nvPr/>
        </p:nvPicPr>
        <p:blipFill>
          <a:blip r:embed="rId1"/>
          <a:stretch/>
        </p:blipFill>
        <p:spPr>
          <a:xfrm>
            <a:off x="4724280" y="1981080"/>
            <a:ext cx="3886200" cy="4267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pperplate Gothic Bold"/>
              </a:rPr>
              <a:t>Check variety of sources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Arial Rounded MT Bold"/>
              </a:rPr>
              <a:t>Preview all materials before using them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pperplate Gothic Bold"/>
              </a:rPr>
              <a:t>Obtain and preview the materials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06" name="Picture 17" descr="0511-0902-0801-4559_Woman_Thinking_in_a_Library_clipart_image"/>
          <p:cNvPicPr/>
          <p:nvPr/>
        </p:nvPicPr>
        <p:blipFill>
          <a:blip r:embed="rId2"/>
          <a:stretch/>
        </p:blipFill>
        <p:spPr>
          <a:xfrm>
            <a:off x="4648320" y="1905120"/>
            <a:ext cx="3886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6840" y="1934640"/>
            <a:ext cx="4419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800" spc="-1" strike="noStrike">
                <a:solidFill>
                  <a:srgbClr val="000000"/>
                </a:solidFill>
                <a:latin typeface="Arial Rounded MT Bold"/>
              </a:rPr>
              <a:t>Effectiveness of materials to help the students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pperplate Gothic Bold"/>
              </a:rPr>
              <a:t>Try the materials out with student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0" name="Picture 11" descr="teacher-students"/>
          <p:cNvPicPr/>
          <p:nvPr/>
        </p:nvPicPr>
        <p:blipFill>
          <a:blip r:embed="rId2"/>
          <a:stretch/>
        </p:blipFill>
        <p:spPr>
          <a:xfrm>
            <a:off x="4952880" y="1905120"/>
            <a:ext cx="4030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400" spc="-1" strike="noStrike">
                <a:solidFill>
                  <a:srgbClr val="000000"/>
                </a:solidFill>
                <a:latin typeface="Arial Rounded MT Bold"/>
              </a:rPr>
              <a:t>More than one set of applicable materials.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pperplate Gothic Bold"/>
              </a:rPr>
              <a:t>Compare any competing materials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4" name="Picture 9" descr="0041-0701-2312-2708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800" spc="-1" strike="noStrike">
                <a:solidFill>
                  <a:srgbClr val="000000"/>
                </a:solidFill>
                <a:latin typeface="Arial Rounded MT Bold"/>
              </a:rPr>
              <a:t>Select the best instructional materials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pperplate Gothic Bold"/>
              </a:rPr>
              <a:t>Make your selection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7" name="Picture 9" descr="teacher_clipart_1"/>
          <p:cNvPicPr/>
          <p:nvPr/>
        </p:nvPicPr>
        <p:blipFill>
          <a:blip r:embed="rId1"/>
          <a:stretch/>
        </p:blipFill>
        <p:spPr>
          <a:xfrm>
            <a:off x="5181480" y="1981080"/>
            <a:ext cx="3276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500" spc="-1" strike="noStrike">
                <a:solidFill>
                  <a:srgbClr val="000000"/>
                </a:solidFill>
                <a:latin typeface="Arial Rounded MT Bold"/>
              </a:rPr>
              <a:t>You can determine how effective the materials could be in other lesson.</a:t>
            </a:r>
            <a:endParaRPr b="0" lang="en-US" sz="4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pperplate Gothic Bold"/>
              </a:rPr>
              <a:t>Keep accurate records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20" name="Picture 9" descr="0511-0809-0704-1623_Frazzled_File_Clerk_Clip_Art_clipart_image"/>
          <p:cNvPicPr/>
          <p:nvPr/>
        </p:nvPicPr>
        <p:blipFill>
          <a:blip r:embed="rId1"/>
          <a:stretch/>
        </p:blipFill>
        <p:spPr>
          <a:xfrm>
            <a:off x="5105520" y="1828800"/>
            <a:ext cx="3581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rpuz, Brend B. and Lucido, Paz I (2008)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ducational Technology. Quezon city: Lorimar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ublishing, In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360" indent="-22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aro, Candeleria D. (2004) Educational Technology.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ndaluyong City National Book Stor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360" indent="-22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ucido, Paz I. and Borabo (1997) Educational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echnology. Quezon City: Katha Publishing Co.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360" indent="-22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wby, Timothy J., Stepieh, Donald A., Lehman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James D. and Russel James D. (2000)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tructional Technology for Teaching and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arning. New Jersey :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entice-Hall, In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3:28:36Z</dcterms:created>
  <dc:creator>A S P I R E</dc:creator>
  <dc:description/>
  <dc:language>en-US</dc:language>
  <cp:lastModifiedBy>msu-iit</cp:lastModifiedBy>
  <dcterms:modified xsi:type="dcterms:W3CDTF">2011-06-28T03:09:42Z</dcterms:modified>
  <cp:revision>7</cp:revision>
  <dc:subject/>
  <dc:title>Slide 1</dc:title>
</cp:coreProperties>
</file>